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338C-3F7F-47F0-9A44-DCE5EAFFD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8607-F3F9-498E-AA4E-6F4645CE6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729B-F256-406B-AB6C-9E0A4CA2A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9A0F-87F0-4204-AD83-076AFF567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A2C5-9C27-442D-9516-DCCF1FF3B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B2AC-407D-4829-9F03-8E61BEB95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7200-06AC-4E50-A761-94D4FBF33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4E0A-BBE1-4A20-8CA5-F860EE781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47EC-5E2E-4CA0-A2C5-273EBABE9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36FC-1574-45C7-B5B6-F73E3DB1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6258-A9EC-466A-9154-B74E65445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CEB7-CE2F-4F53-8901-2641D6926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2AD59-416B-423A-B9FD-357E6C1FD5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4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640" y="170028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  五  课</a:t>
            </a:r>
            <a:br>
              <a:rPr sz="4000"/>
            </a:br>
            <a:br>
              <a:rPr sz="900"/>
            </a:br>
            <a:br>
              <a:rPr sz="700"/>
            </a:b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g    k    h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76360" y="4581360"/>
            <a:ext cx="6400800" cy="6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执教人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张香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5"/>
          <p:cNvSpPr txBox="1"/>
          <p:nvPr/>
        </p:nvSpPr>
        <p:spPr>
          <a:xfrm>
            <a:off x="1116000" y="1916280"/>
            <a:ext cx="86364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儿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歌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65" name="Group 14"/>
          <p:cNvGrpSpPr/>
          <p:nvPr/>
        </p:nvGrpSpPr>
        <p:grpSpPr>
          <a:xfrm>
            <a:off x="2484360" y="692280"/>
            <a:ext cx="5904000" cy="5330520"/>
            <a:chOff x="2484360" y="692280"/>
            <a:chExt cx="5904000" cy="5330520"/>
          </a:xfrm>
        </p:grpSpPr>
        <p:pic>
          <p:nvPicPr>
            <p:cNvPr id="66" name="Picture 9" descr=""/>
            <p:cNvPicPr/>
            <p:nvPr/>
          </p:nvPicPr>
          <p:blipFill>
            <a:blip r:embed="rId1"/>
            <a:stretch/>
          </p:blipFill>
          <p:spPr>
            <a:xfrm>
              <a:off x="2484360" y="692280"/>
              <a:ext cx="5759640" cy="489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8" descr=""/>
            <p:cNvPicPr/>
            <p:nvPr/>
          </p:nvPicPr>
          <p:blipFill>
            <a:blip r:embed="rId2"/>
            <a:srcRect l="25634" t="36196" r="34490" b="58089"/>
            <a:stretch/>
          </p:blipFill>
          <p:spPr>
            <a:xfrm>
              <a:off x="2484360" y="1197000"/>
              <a:ext cx="583272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10" descr=""/>
            <p:cNvPicPr/>
            <p:nvPr/>
          </p:nvPicPr>
          <p:blipFill>
            <a:blip r:embed="rId3"/>
            <a:srcRect l="25634" t="48477" r="34490" b="46641"/>
            <a:stretch/>
          </p:blipFill>
          <p:spPr>
            <a:xfrm>
              <a:off x="2556000" y="2421000"/>
              <a:ext cx="5832360" cy="43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Picture 11" descr=""/>
            <p:cNvPicPr/>
            <p:nvPr/>
          </p:nvPicPr>
          <p:blipFill>
            <a:blip r:embed="rId4"/>
            <a:srcRect l="25634" t="59098" r="34490" b="36004"/>
            <a:stretch/>
          </p:blipFill>
          <p:spPr>
            <a:xfrm>
              <a:off x="2484360" y="3500280"/>
              <a:ext cx="5832720" cy="43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Picture 12" descr=""/>
            <p:cNvPicPr/>
            <p:nvPr/>
          </p:nvPicPr>
          <p:blipFill>
            <a:blip r:embed="rId5"/>
            <a:srcRect l="25634" t="68908" r="34490" b="26195"/>
            <a:stretch/>
          </p:blipFill>
          <p:spPr>
            <a:xfrm>
              <a:off x="2556000" y="4508640"/>
              <a:ext cx="583236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Picture 13" descr=""/>
            <p:cNvPicPr/>
            <p:nvPr/>
          </p:nvPicPr>
          <p:blipFill>
            <a:blip r:embed="rId6"/>
            <a:srcRect l="25634" t="79544" r="34490" b="15539"/>
            <a:stretch/>
          </p:blipFill>
          <p:spPr>
            <a:xfrm>
              <a:off x="2556000" y="5589720"/>
              <a:ext cx="5832360" cy="4330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6"/>
          <p:cNvSpPr txBox="1"/>
          <p:nvPr/>
        </p:nvSpPr>
        <p:spPr>
          <a:xfrm>
            <a:off x="2484360" y="2565360"/>
            <a:ext cx="439272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谢谢指导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4"/>
          <p:cNvSpPr txBox="1"/>
          <p:nvPr/>
        </p:nvSpPr>
        <p:spPr>
          <a:xfrm rot="21144600">
            <a:off x="323640" y="475920"/>
            <a:ext cx="3384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1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6276000"/>
                </a:gradFill>
                <a:latin typeface="宋体"/>
              </a:rPr>
              <a:t>教材简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6276000"/>
              </a:gradFill>
              <a:latin typeface="宋体"/>
              <a:ea typeface="宋体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250920" y="2060640"/>
            <a:ext cx="85690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本课是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九年义务教育课程标准实验教科书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年级上册拼音部分中的第五课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此课包括五部分的内容，本节课先学前两部分。第一部分是三个声母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笔顺和书写格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4"/>
          <p:cNvSpPr txBox="1"/>
          <p:nvPr/>
        </p:nvSpPr>
        <p:spPr>
          <a:xfrm>
            <a:off x="1187280" y="2276640"/>
            <a:ext cx="280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教学目标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1116000" y="3325680"/>
            <a:ext cx="7632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读准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音，认清形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正确书写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 rot="21367200">
            <a:off x="2124000" y="1773000"/>
            <a:ext cx="331164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814000"/>
                </a:gradFill>
                <a:latin typeface="宋体"/>
              </a:rPr>
              <a:t>教学重、难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814000"/>
              </a:gradFill>
              <a:latin typeface="宋体"/>
              <a:ea typeface="宋体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1835280" y="3429000"/>
            <a:ext cx="612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　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的发音既是重点也是难点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4"/>
          <p:cNvSpPr txBox="1"/>
          <p:nvPr/>
        </p:nvSpPr>
        <p:spPr>
          <a:xfrm>
            <a:off x="2627280" y="1700280"/>
            <a:ext cx="3673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教法、学法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1476360" y="3284640"/>
            <a:ext cx="66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教法采用直观引导法，谈话法。学法采用观察法，竞赛法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4"/>
          <p:cNvSpPr txBox="1"/>
          <p:nvPr/>
        </p:nvSpPr>
        <p:spPr>
          <a:xfrm rot="417600">
            <a:off x="1186920" y="691920"/>
            <a:ext cx="324036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教学流程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1476360" y="2205000"/>
            <a:ext cx="648036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、复习旧知，作下铺垫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二、谈话导入，学习新课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三、学读儿歌，巩固新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四、激发兴趣、指导书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gkh"/>
          <p:cNvPicPr/>
          <p:nvPr/>
        </p:nvPicPr>
        <p:blipFill>
          <a:blip r:embed="rId1"/>
          <a:srcRect l="0" t="0" r="2052" b="0"/>
          <a:stretch/>
        </p:blipFill>
        <p:spPr>
          <a:xfrm>
            <a:off x="-181080" y="-171360"/>
            <a:ext cx="9506160" cy="71722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3492360" y="0"/>
            <a:ext cx="7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g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3564000" y="5668920"/>
            <a:ext cx="6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k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3059280" y="2565360"/>
            <a:ext cx="718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1763640" y="2637000"/>
            <a:ext cx="47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新笔画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0" descr=""/>
          <p:cNvPicPr/>
          <p:nvPr/>
        </p:nvPicPr>
        <p:blipFill>
          <a:blip r:embed="rId1"/>
          <a:stretch/>
        </p:blipFill>
        <p:spPr>
          <a:xfrm>
            <a:off x="4932360" y="2637000"/>
            <a:ext cx="590400" cy="97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1763640" y="2637000"/>
            <a:ext cx="47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新笔画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5"/>
          <p:cNvGrpSpPr/>
          <p:nvPr/>
        </p:nvGrpSpPr>
        <p:grpSpPr>
          <a:xfrm>
            <a:off x="5003640" y="2852640"/>
            <a:ext cx="542880" cy="707760"/>
            <a:chOff x="5003640" y="2852640"/>
            <a:chExt cx="542880" cy="707760"/>
          </a:xfrm>
        </p:grpSpPr>
        <p:pic>
          <p:nvPicPr>
            <p:cNvPr id="62" name="Picture 6" descr=""/>
            <p:cNvPicPr/>
            <p:nvPr/>
          </p:nvPicPr>
          <p:blipFill>
            <a:blip r:embed="rId1"/>
            <a:stretch/>
          </p:blipFill>
          <p:spPr>
            <a:xfrm>
              <a:off x="5003640" y="3112920"/>
              <a:ext cx="523800" cy="44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7" descr=""/>
            <p:cNvPicPr/>
            <p:nvPr/>
          </p:nvPicPr>
          <p:blipFill>
            <a:blip r:embed="rId2"/>
            <a:stretch/>
          </p:blipFill>
          <p:spPr>
            <a:xfrm>
              <a:off x="5003640" y="2852640"/>
              <a:ext cx="542880" cy="3333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4T01:28:26Z</dcterms:created>
  <dc:creator>djs</dc:creator>
  <dc:description/>
  <dc:language>en-US</dc:language>
  <cp:lastModifiedBy>Administrator</cp:lastModifiedBy>
  <dcterms:modified xsi:type="dcterms:W3CDTF">2015-01-20T08:26:11Z</dcterms:modified>
  <cp:revision>34</cp:revision>
  <dc:subject/>
  <dc:title>第五课  课题 : g k h</dc:title>
</cp:coreProperties>
</file>